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CA3-4312-4540-AF89-01707D64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66F-C895-4E1D-824E-53D1150D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56E-5C28-4C44-9222-6E6C48BF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AB0-993F-4D8E-A4C1-A16B9B75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30CC-BAE9-43AD-B2A9-136B4CEF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58E5-FBB3-4AE4-9BC1-C7424425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C524-A98A-46A6-8B31-A4A01F28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248C-EAB6-4C77-8342-6269CB46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7695-EB8D-4E46-8BEF-F29C409F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1CF0-6299-4047-B2E7-C78B0652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C107-0980-4074-88A3-8FF539B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937-9594-4517-8A89-BAE78BD3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0431-EC88-4DBB-9266-ACB58449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DC22-CC63-4BF4-BB06-BC3DA92C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0231-9153-416F-8A83-C9DAE12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0721-F716-48A8-85DD-27C54319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99E5-5E70-4482-9E66-4DFB5F19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7FE-E853-4622-92A3-3449B71A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598-0E0B-4E8C-B180-5BCFDFE2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908-2C0E-4D16-BEDB-5EB43D75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0F3-DB5B-4D0F-A4B3-89BD9CDB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934-0AB4-44D9-8F52-AF6ABA32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904-C2E7-4F1A-99F4-3DE1B84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EA2-D3D6-4C4B-9254-98276853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7C54-5A55-4ED5-AB94-521690D3BB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ECE0-74C6-49EC-B112-3822BFF94C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Leopoldo Alas (Clarí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spañol 1852-19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El 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Observa el uso de regionalismos y palabras coloquiales.  ¿Qué efecto busca el aut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¿De qué modo sería diferente la situación de los niños si vivieran el “la ciudad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¿Cuál es el trasfondo histórico del cuento que obliga a Pinín a abandonar el puebl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El 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n tu opinión, ¿qué le interesa más a Clarín, la descripción del grupo social o la de los personajes?  ¿Cómo es, específicamente, la sociedad retratada?  ¿Es su influencia fuerte o puede ser superad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¿Qué elementos realistas o naturalistas encuentras en este relat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La compar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1440" y="3610440"/>
            <a:ext cx="7755480" cy="1771920"/>
            <a:chOff x="541440" y="3610440"/>
            <a:chExt cx="7755480" cy="1771920"/>
          </a:xfrm>
        </p:grpSpPr>
        <p:sp>
          <p:nvSpPr>
            <p:cNvPr id="123" name="_s17425"/>
            <p:cNvSpPr/>
            <p:nvPr/>
          </p:nvSpPr>
          <p:spPr>
            <a:xfrm>
              <a:off x="4186800" y="3610440"/>
              <a:ext cx="1957320" cy="1771920"/>
            </a:xfrm>
            <a:prstGeom prst="ellipse">
              <a:avLst/>
            </a:prstGeom>
            <a:solidFill>
              <a:srgbClr val="ffcf01">
                <a:alpha val="50000"/>
              </a:srgbClr>
            </a:solidFill>
            <a:ln w="468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7426"/>
            <p:cNvSpPr/>
            <p:nvPr/>
          </p:nvSpPr>
          <p:spPr>
            <a:xfrm>
              <a:off x="6339600" y="4275720"/>
              <a:ext cx="19573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2300" spc="-1" strike="noStrike">
                  <a:solidFill>
                    <a:srgbClr val="000000"/>
                  </a:solidFill>
                  <a:latin typeface="Tahoma"/>
                </a:rPr>
                <a:t>Emilia Pardo Bazá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7427"/>
            <p:cNvSpPr/>
            <p:nvPr/>
          </p:nvSpPr>
          <p:spPr>
            <a:xfrm>
              <a:off x="2694240" y="3610440"/>
              <a:ext cx="1957680" cy="17719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7428"/>
            <p:cNvSpPr/>
            <p:nvPr/>
          </p:nvSpPr>
          <p:spPr>
            <a:xfrm>
              <a:off x="541440" y="4275720"/>
              <a:ext cx="19576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2300" spc="-1" strike="noStrike">
                  <a:solidFill>
                    <a:srgbClr val="000000"/>
                  </a:solidFill>
                  <a:latin typeface="Tahoma"/>
                </a:rPr>
                <a:t>Leopoldo Alas “Clarín”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Datos biográf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Vivió gran parte de su vida en Oviedo, Astur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Vivió un tiempo en Madrid pero le desagradó de tal forma que Madrid aparece en sus cuentos como una fuerza amenazad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Sus ideas y escritos tuvieron gran repercusión en el país ente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Datos biográf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ra excéntrico, sensible y tímido como una persona pero era exactamente lo opuesto en sus escr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scribió cuentos y nov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Fue periodista y crítico literario mientras era profesor en la Facultad de Derecho en Ove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Su fama le llegó después de mor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Datos biográf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Trató de revelar todos los problemas de la socie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Fueron muy conocidos y discutidos por toda de Españ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Defendía a los escritores liberales y criticaba a los conserv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Murió a los 49 añ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La narr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Fue realista y natural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Descripciones sumamente detall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Su influencia principal era el francés Émile Zo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xperimentó con el estilo </a:t>
            </a:r>
            <a:r>
              <a:rPr b="0" i="1" lang="es-DO" sz="3200" spc="-1" strike="noStrike">
                <a:solidFill>
                  <a:srgbClr val="000000"/>
                </a:solidFill>
                <a:latin typeface="Tahoma"/>
              </a:rPr>
              <a:t>indirecto li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Utiliza un narrador omnisc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El realis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Surgió como resultado del romantic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Idealizaba el mun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nfatizaba el mundo científico y la producción económ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Una idea objetiva y material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Retrata la realidad (su propio ambiente) de forma detall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ahoma"/>
              </a:rPr>
              <a:t>Por esto se utilizan los regionalismos y tradi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El naturalis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Movimiento encabezado por Pardo Bazán y utilizado por Clarín A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nfatiza la degradación del individuo como resultado de la herencia y del amb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Te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La crítica de la corrupción y la mentira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Los problemas filosóf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Los problemas religio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l contraste entre el campo y la ciu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O la ciudad y la metrópo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l papel de la imag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El 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Comenta las circunstancias directas e indirectas que causan la soledad de los hermanos. ¿Cómo se enfrentan a ell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studia el tema de la familia en “¡Adiós Cordera!”  Analiza las figuras del padre, la madre y Cordera en relación con los niñ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4:00:22Z</dcterms:created>
  <dc:creator>Cameron Stephen</dc:creator>
  <dc:description/>
  <dc:language>en-US</dc:language>
  <cp:lastModifiedBy>Cameron Stephen</cp:lastModifiedBy>
  <dcterms:modified xsi:type="dcterms:W3CDTF">2002-09-24T05:03:54Z</dcterms:modified>
  <cp:revision>3</cp:revision>
  <dc:subject/>
  <dc:title>Leopoldo Alas (Clarín)</dc:title>
</cp:coreProperties>
</file>